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120-609F-4B73-A1D4-79261BC4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F0F6-1722-41ED-8864-0531FC74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95007-8862-4BCA-9F1B-5D4CB9DF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49D49-8A35-48C6-AE80-48F26387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1FFA2-DEF7-4EFE-9227-E17BC858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1F5AF-AC98-4631-928C-E8E008A2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7B8D7-FD99-4F6E-A2E9-8D4D6D5B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C63A3-5F05-4E82-821D-453238F7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32667-7435-4F06-8188-70184F01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ADEA9-5F71-4324-BA07-96F158AF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3E240-F86B-4858-B0E5-A6E8DCB2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25D94-4C22-46DB-B196-115D0B98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C6E-DD25-49B3-983F-4BBA0F09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CFD09-9691-4EDF-A7CD-614859F0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90D39-1D94-4CB0-89F3-8C94EACE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95EAF-0E58-4B99-AD74-9E31859F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E9D24-42E6-471F-939D-06713AA4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BAFF5-1E03-4F93-9F06-0915AF8F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4B910-FCAF-47D4-9BC7-24B2A8DB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CD61B-0D33-4730-9DBA-E31B670C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37C79-E32A-406D-8D22-B9C9ED47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A6ABB-3E47-4DA4-8EE2-8A4B8A80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66FAC-2850-4283-AFF8-9749E7FD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37D-F732-4407-A32D-5B2FF603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4BB1B-B95C-4A3F-8191-0800E2CF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1CA73-10F3-4D10-9AEE-4F5F613D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50DA6-F46A-42B8-8681-4A375B08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011F8-A167-4845-9026-36A3DE40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A82F8-F6E7-43D1-833A-7FD35907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05064-F0E8-4686-9AF0-01C9AED4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0CFFA-6947-4D76-9B1D-869D92BA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0AEF9-5437-40F5-996B-8806C9B1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C288A-7E18-45C9-A411-1F4EC08A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F3DDE-BF82-41D7-8D05-6D068D21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56E8-E099-4AE5-A77D-701F4EC3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B3603-7437-4AFE-B491-AD078CD8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83C80-8633-4079-B537-FAD41DC9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7A287-610B-436B-8FF5-A6726DE4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EBBF3-D8ED-47C9-B7FA-B1BF6707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BAF98-1A40-4679-8BD7-412087A8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E1804-1100-4685-AABD-B8C32B1F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3B3FA-7153-4738-84BF-FBC7A48E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E2F1C-7ED5-4F66-AF52-9D5DEA51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4937F-E9D0-4765-8E57-4D4BEEB9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A609B-6ECA-40E0-B0CA-712D91AA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93E3-B007-4EA6-9C20-E0B520E1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B5371-B61F-4E35-B828-720CFCB8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9EB12-CF2F-47E6-B1A4-EA04721B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40B8D-2F3D-4397-9916-23A82473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C0CD2-7AA4-4FB0-9057-10221573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4D38F-E563-49E1-9B99-43450DA5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3017-8D59-4C75-A5E7-6E8B64A8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6B34-F28A-4A6A-BC7E-A702C011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1466-DBB2-4327-A274-DC1D3EED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788A-9EAA-4135-9F9B-6792BD66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0853-88BA-4843-81DF-22778DC1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9C2-A0B5-454D-955F-B115E532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69E9-47A1-4F28-A992-B4D07D3D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36DC-3902-4638-A83C-3E60C30B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6170-2980-41B1-8F85-1B906DC2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2E1B-A265-4C0A-A609-10A0E89E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6803-02AE-4734-AF03-2280C58F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FE4F1-FC27-45E1-940D-F8D2F6B8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4146E-8F8F-4C4D-8E88-7F3DFBC1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2B2AA-D3FB-45C7-8183-AED6601E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E52BE-0844-4EEE-9EAB-62770D5B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3AC88-BFDA-45A8-9176-7210165D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F79-ABD2-456F-85CB-4ED90009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9155E-DFDF-42A3-B2C1-578C82C8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C7716-78B8-4153-A744-355E7515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FA2FE-F8F3-49E7-AF90-3DBE2BE5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6FBCF-9BE2-4324-BB8D-8C1EB138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EDCFB-91C8-4B5F-9874-7784B86D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16DB5-6457-4FF8-BEFF-CFC7337F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D3B39-C122-470C-BCD8-69FBB998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12593-4679-4713-B1CF-5C76BED6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775BD-0AD3-404D-93FF-8A9C8B92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8DE8B-9019-4053-9059-69296488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7858-532C-4875-94C6-A1B170D1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554A6-250C-4B86-A68E-373437D8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CAF5B-7903-41E6-8635-744CE1F9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44393-CDFB-4A4E-AFEC-4D7C7567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AD903-CA4C-48C8-B715-15FE0E06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EB8AC-A367-4F8D-A9B9-74D6E87E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A8962-2D28-4B68-8CFE-3A0E6B11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B2EE6-6B52-4CB7-B5E2-BD33FCD1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72D61-C675-49B2-9568-DDAD55F1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281B2-38C1-4B10-971E-02CA146B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0D618-8A03-4D3D-8E81-3DA2268E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939C-20AA-448C-AA78-19F24736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61386-A59C-4DE3-8979-5F975339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4176D-B97C-42A9-8794-EB29186D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AC50B-83BC-4128-882C-874F6217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BC864-D9B3-40A9-83BE-4786909E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0C876-EF5C-4F0D-B242-43F51A55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87963-F9AA-473B-B75B-5701D5B7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60835-86D4-4710-8EFA-A7FC6F82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8A743-6C1F-47E3-A1FC-49B838CA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B67B5-D3AD-4D2B-B76C-BBD15C30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26903-A3AD-4062-ACEB-D46F9868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AA2-401D-489B-9C08-0CF54BB8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E6F51-87BC-48C9-83E8-C288BB3F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253AD-9499-4DDF-85BC-7ABDAAEA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619D9-EB42-4623-B6DE-02AFA769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559F1-9830-4B9D-907E-DDC00ED8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88629-344D-48AC-BA44-169FD550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57394-5F4A-4879-8199-083ADD68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F8AD1-7F0C-4859-B799-C787A8AE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ACED3-3ECF-4F44-88CE-ECE727E6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E7120-D0BC-4AD4-A5D5-21F8A487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2A12D-FA55-4116-9221-6CD47607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294A-70C8-4547-A828-5F305D67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1D5BD-F79A-4208-9CAB-5FEC77F1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DE4EC-BEE1-4F57-BE56-87216BA5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8AB83-1052-4C62-A3A0-0C21C7E4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31863-6B94-4C34-8EC2-DE24F83D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51850-A26B-4DFB-825D-2DCDB163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86624-935E-431B-B2BE-C237A12D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D4302-B272-4966-8ECA-3265EFE0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107B8-AC76-48A6-9A85-A0EC04FC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44716-3F2F-4378-A91B-DED20151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FE77F-A209-4FBD-8BEA-FD117BB7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6BF-4010-4556-9DEA-217D10CE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52116-000F-46D1-A315-C25E548C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6305C-9348-44D2-9345-0B2DE89E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B6CFC-1CF9-4E06-ACFE-BE289AAC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D706A-8839-4865-BDFA-B0128AA2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04DF1-2072-453B-9293-8C3016ED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2102C-57B8-4157-85A9-CD9516F5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A7EDE-9855-4DD6-84E2-1BF7DCAE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EEA78-8647-4178-8C58-6CBF524E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75531-41F1-4C2D-A70A-4455A315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BCBD8-74B1-43F1-A29A-876ECD02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4A5F-9072-4DB8-AEA6-4884CB2E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1AE7D-63C5-4BA9-AE47-C079AB26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E2907-572D-441D-B22C-9EA284A3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155B2-D277-4DC7-A350-7E524DB1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3953A-DF17-497A-AA56-7ABC4936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F7F85-E651-479B-9910-FDF8CB78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ACF81-1C3E-46C4-958D-51CB62DF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40B69-9424-4ED9-A264-F16A3FCB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C21E5-0A74-4D6E-88E1-40717AC3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4BE47-D703-47B9-BDF3-01EFE011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16EFF-4D45-488B-A604-EDA71DB8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E1C2-0096-455F-9292-846A084044E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98E3-3771-45BF-891E-82E804B7730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7FC0-64F7-4E47-A799-29ADBD89DC1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A0E0-2A69-4635-B0D3-AA391309DB9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DF1D-8235-4832-A22C-95C2B1038A0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D922-13F4-4E49-A054-16EEFDC85AC8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757D-566C-4C3F-8481-2157C7BAE6F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FEA1-40E7-4F75-AA7C-92C0325BD36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B16F-0290-42BC-9892-26EB88B6180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6697-2065-4164-BA1F-2BB0C502B7B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AFE8-04DC-4C8B-B9E7-B03A698B61C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E003-8ACE-4950-BF9B-444AEDC5638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44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88 Nič nedaj na zvodný hlas pokuše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lu Spasiteľ dá ti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, pokoj ti vrá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oc hľadaj u ne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a všemocného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Nič nedaj na zvodný hlas pokušenia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hriech vábi, ak nebdieš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hneď v moci ťa má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uď vo viere stál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pomôcť vždy v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dôveruj jem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záchran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lu Spasiteľ dá ti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, pokoj ti vrá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oc hľadaj u ne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a všemocn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lá spoločnosť zvádza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ak v raji ten had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šak poznáš, že málo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môže ti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čisté, to milu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z pravdy, ži v to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ľad na Krista Kráľ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r, spása je v ň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ilu Spasiteľ dá ti,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dosť, pokoj ti vrá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omoc hľadaj u neho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a všemocn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án víťazov chrabrých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chce privítať tam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de nebude hrozi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už nijaký kl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zlého sa odvrá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 Kristom sa s spoj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tak denne môžeš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iesť víťazný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4:06:43Z</dcterms:modified>
  <cp:revision>91</cp:revision>
  <dc:subject/>
  <dc:title>Je veľký náš Pán, on slávy je Kráľ Nech do všetkých strán  spev vrúcnych znie chvál.</dc:title>
</cp:coreProperties>
</file>